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B7CC5-957C-4F3A-825D-49F72B555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B57D2-B039-4ED2-A6B1-E20502B09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39E35-EDFC-4DF0-B269-33C27B4A7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17327-2EDC-467B-A2CD-47922EF33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9CB9E-ED7B-4888-A41A-D0ABC390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3ADB1-8BA9-4A69-9EA0-DE2F30832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3D93-32D5-4602-B119-A8AA6DFB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E471-E21A-4BBA-9BBD-5E14AD52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1C509-6293-4C43-B455-116101F6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854A-BF2B-4951-B16B-281BFCE7C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C3039-10F9-4F08-BC64-56B99CAE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D818-1AE9-4FC8-B9D0-87586030A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4960-060F-4D69-B41F-D83244555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rcRect l="19700" t="50010" r="15700" b="40000"/>
          <a:stretch/>
        </p:blipFill>
        <p:spPr>
          <a:xfrm>
            <a:off x="5738760" y="3400560"/>
            <a:ext cx="1474920" cy="2286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18:14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